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10.wmf" ContentType="image/x-wmf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8.jpeg" ContentType="image/jpeg"/>
  <Override PartName="/ppt/media/image97.jpeg" ContentType="image/jpeg"/>
  <Override PartName="/ppt/media/image34.wmf" ContentType="image/x-wmf"/>
  <Override PartName="/ppt/media/image33.jpeg" ContentType="image/jpeg"/>
  <Override PartName="/ppt/media/image32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39.jpeg" ContentType="image/jpeg"/>
  <Override PartName="/ppt/media/image98.jpeg" ContentType="image/jpeg"/>
  <Override PartName="/ppt/media/image8.png" ContentType="image/png"/>
  <Override PartName="/ppt/media/image23.jpeg" ContentType="image/jpeg"/>
  <Override PartName="/ppt/media/image82.jpeg" ContentType="image/jpeg"/>
  <Override PartName="/ppt/media/image102.jpeg" ContentType="image/jpeg"/>
  <Override PartName="/ppt/media/image41.jpeg" ContentType="image/jpeg"/>
  <Override PartName="/ppt/media/image14.jpeg" ContentType="image/jpeg"/>
  <Override PartName="/ppt/media/image7.png" ContentType="image/png"/>
  <Override PartName="/ppt/media/image62.jpeg" ContentType="image/jpeg"/>
  <Override PartName="/ppt/media/image79.jpeg" ContentType="image/jpeg"/>
  <Override PartName="/ppt/media/image35.jpeg" ContentType="image/jpeg"/>
  <Override PartName="/ppt/media/image1.jpeg" ContentType="image/jpeg"/>
  <Override PartName="/ppt/media/image89.jpeg" ContentType="image/jpeg"/>
  <Override PartName="/ppt/media/image9.png" ContentType="image/png"/>
  <Override PartName="/ppt/media/image3.jpeg" ContentType="image/jpeg"/>
  <Override PartName="/ppt/media/image37.jpeg" ContentType="image/jpeg"/>
  <Override PartName="/ppt/media/image52.jpeg" ContentType="image/jpeg"/>
  <Override PartName="/ppt/media/image60.jpeg" ContentType="image/jpeg"/>
  <Override PartName="/ppt/media/image77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51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86.jpeg" ContentType="image/jpeg"/>
  <Override PartName="/ppt/media/image27.jpeg" ContentType="image/jpeg"/>
  <Override PartName="/ppt/media/image50.jpeg" ContentType="image/jpeg"/>
  <Override PartName="/ppt/media/image21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6.jpeg" ContentType="image/jpeg"/>
  <Override PartName="/ppt/media/image103.jpeg" ContentType="image/jpeg"/>
  <Override PartName="/ppt/media/image83.jpeg" ContentType="image/jpeg"/>
  <Override PartName="/ppt/media/image24.jpeg" ContentType="image/jpeg"/>
  <Override PartName="/ppt/media/image85.jpeg" ContentType="image/jpeg"/>
  <Override PartName="/ppt/media/image26.jpeg" ContentType="image/jpeg"/>
  <Override PartName="/ppt/media/image5.jpeg" ContentType="image/jpeg"/>
  <Override PartName="/ppt/media/image25.jpeg" ContentType="image/jpeg"/>
  <Override PartName="/ppt/media/image84.jpeg" ContentType="image/jpeg"/>
  <Override PartName="/ppt/media/image31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22.jpeg" ContentType="image/jpeg"/>
  <Override PartName="/ppt/media/image101.jpeg" ContentType="image/jpeg"/>
  <Override PartName="/ppt/media/image8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84760" y="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A9AF4A-44E6-4243-8112-6E50D8DBE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F6CE01-279E-4E7B-807D-F6DE0A96D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BDB7D-BB3B-4922-8B42-070A06FAF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E9D25-4649-4E1C-A81D-34C38424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2799B-3B96-4532-A807-ABCBF2AF9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589343-1DFA-47A2-B1FE-879B9534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FB3D-76FC-43A6-9A32-496586F7B2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FA4E-6559-41A2-AA10-FECA77F143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D9CD4-E663-4F57-A6E9-68798E5378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2FA5-C3EF-437D-AC27-B356377922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B9DE4-1446-4AED-9D68-7B7A253CC2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F8F68-ADB4-40B7-974B-962A97D228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41C20-45E8-4BED-9439-79B68AAC3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198C7-CBD4-412C-B8F7-CF55879219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F52E-CE23-429F-A230-4C5D0B5921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33E3E-4C1B-4167-8FC2-FDCA6A09C3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B6CB5-528B-495E-AF9C-CBC0884EF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119CB-6F33-4DC0-B24D-CACD2247A0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8DAB6E-8901-41C1-8507-098F70DE4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image" Target="../media/image52.jpeg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jpeg"/><Relationship Id="rId4" Type="http://schemas.openxmlformats.org/officeDocument/2006/relationships/image" Target="../media/image80.jpeg"/><Relationship Id="rId5" Type="http://schemas.openxmlformats.org/officeDocument/2006/relationships/image" Target="../media/image8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image" Target="../media/image84.jpeg"/><Relationship Id="rId3" Type="http://schemas.openxmlformats.org/officeDocument/2006/relationships/image" Target="../media/image85.jpeg"/><Relationship Id="rId4" Type="http://schemas.openxmlformats.org/officeDocument/2006/relationships/image" Target="../media/image86.jpe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jpeg"/><Relationship Id="rId3" Type="http://schemas.openxmlformats.org/officeDocument/2006/relationships/image" Target="../media/image89.jpeg"/><Relationship Id="rId4" Type="http://schemas.openxmlformats.org/officeDocument/2006/relationships/image" Target="../media/image90.jpeg"/><Relationship Id="rId5" Type="http://schemas.openxmlformats.org/officeDocument/2006/relationships/image" Target="../media/image91.jpeg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image" Target="../media/image95.jpeg"/><Relationship Id="rId3" Type="http://schemas.openxmlformats.org/officeDocument/2006/relationships/image" Target="../media/image96.jpeg"/><Relationship Id="rId4" Type="http://schemas.openxmlformats.org/officeDocument/2006/relationships/image" Target="../media/image97.jpeg"/><Relationship Id="rId5" Type="http://schemas.openxmlformats.org/officeDocument/2006/relationships/image" Target="../media/image98.jpeg"/><Relationship Id="rId6" Type="http://schemas.openxmlformats.org/officeDocument/2006/relationships/image" Target="../media/image99.jpe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image" Target="../media/image101.jpe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image" Target="../media/image10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685800" y="2438280"/>
            <a:ext cx="77724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5105520"/>
            <a:ext cx="6400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c.dr Igor Simani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1557360"/>
            <a:ext cx="6120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4400" spc="-1" strike="noStrike">
                <a:solidFill>
                  <a:srgbClr val="000000"/>
                </a:solidFill>
                <a:latin typeface="Arial"/>
              </a:rPr>
              <a:t>MEDICAL REHABILITATION OF AMPUTE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3811680"/>
            <a:ext cx="882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Amputation is the removal or loss of all or part of the upper or lower li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92160" y="766800"/>
            <a:ext cx="9306000" cy="53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Assessment of patient's capacity for prosthetic fitting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ll upper limb amputees are capable of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ge is a relative contraindication for prosthetic fit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Functional assessment of other organ systems (cardiovascular system, respiratory system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build (too obese and cachectic persons are not good candidates for prosthetic fitt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9360" y="1901880"/>
            <a:ext cx="8578800" cy="39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ient's motivation and willingness to cooper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ntal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adequate residual limb (inadequate length, shape, trophic changes, presence of neurinoma and hard adherent, painful scars make it unsuitable for prosthetic fitting, often requiring a reamputatio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55640" y="968400"/>
            <a:ext cx="79200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Preprosthetic ph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ump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band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ercises for strengthening the muscles which initiate the residual limb movement, exercises for strengthening the muscles of the contralateral extremity and upper extrem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Maintenance and increase of joint range mo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Gait training with a temporary prosthesis (pyl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508720" y="1000080"/>
            <a:ext cx="2438280" cy="18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360" y="187200"/>
            <a:ext cx="9044280" cy="73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Soft dressing stump bandaging is applied to shrink and shape the stump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Bandaging starts after the suture removal, with the use of a special technique, applying more pressure on the distal part and less on the proximal part of the stum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This procedure helps to reduce local edema, prevent formation of adipose tissue, while applying pressure to the muscles causes atroph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Adequately shaped residual limb has a conic shape that allows for total  contact  within the socket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600" spc="-1" strike="noStrike">
                <a:solidFill>
                  <a:srgbClr val="000000"/>
                </a:solidFill>
                <a:latin typeface="Arial"/>
              </a:rPr>
              <a:t>When a patient starts wearing a prosthesis, stump bandaging is performed when prosthesis is not used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44280" y="328680"/>
            <a:ext cx="9312120" cy="63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Exerises for muscle strengthening are specially focused on the extensor muscles, because they are important for stable gait and good prosthesis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houlder girdle and trunk muscles are also strengthened, as well as pelvic stabiliz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 temporary prosthesis (pylon) is used for maintenance and restoration of the motor pattern which enables faster mastering the gait with a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mmediately before and after taking the prosthesis off, attention should be paid to the local stump stat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4000" y="566640"/>
            <a:ext cx="5651280" cy="54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Initially the gait is practiced within parallel ba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Then in the frontal and saggital plane with a step forward, then gait with crutches and overcoming smaller architectural barrier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0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>
                <a:solidFill>
                  <a:srgbClr val="000000"/>
                </a:solidFill>
                <a:latin typeface="Arial"/>
              </a:rPr>
              <a:t>Floor-rise tra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2597040" cy="38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160" y="1120680"/>
            <a:ext cx="9147240" cy="46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arts with the delivery of the definite prosthesi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t includes the last phase of training in proper donning/doffing the prosthesis, its maintenance and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Definite prosthesis is biomechanically adjusted to the patient: to provide maximum function, to be used with the least energy cost, to provide comfort and be aesthetically accep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3440" y="1668600"/>
            <a:ext cx="8894880" cy="35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osthetic ph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upper-limb pediatric amputations, the first prosthesis is applied when the infants start actively to s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n lower-limb amputatins, when the infants enters the last phase of verticaliz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32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valuation of the achieved level of functional capa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283360" y="3503520"/>
            <a:ext cx="3429000" cy="27417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757080" y="1306440"/>
            <a:ext cx="7086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Performed by a multidisciplinary te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the achieved level of functional capacit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prosthe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Functanionality in activities of daily 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</a:rPr>
              <a:t>Assessment of work capacity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38040" y="2192400"/>
            <a:ext cx="367344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BREAST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19640" y="2192400"/>
            <a:ext cx="374508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UPPER AND LOWER LIMB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SzPct val="112113"/>
              <a:buBlip>
                <a:blip r:embed="rId4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TRUNK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70240" y="5005440"/>
            <a:ext cx="55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THOPEDIC SHOES AND INSO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370240" y="5707080"/>
            <a:ext cx="448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ELING CH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78160" y="638280"/>
            <a:ext cx="429732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65280" y="730080"/>
            <a:ext cx="4849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STHESES AND ORTHOS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8120" y="1598760"/>
            <a:ext cx="339480" cy="533160"/>
          </a:xfrm>
          <a:prstGeom prst="downArrow">
            <a:avLst>
              <a:gd name="adj1" fmla="val 50000"/>
              <a:gd name="adj2" fmla="val 39263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92840" y="1598760"/>
            <a:ext cx="339840" cy="533160"/>
          </a:xfrm>
          <a:prstGeom prst="downArrow">
            <a:avLst>
              <a:gd name="adj1" fmla="val 50000"/>
              <a:gd name="adj2" fmla="val 3922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51240" y="1627200"/>
            <a:ext cx="393840" cy="3384360"/>
          </a:xfrm>
          <a:prstGeom prst="downArrow">
            <a:avLst>
              <a:gd name="adj1" fmla="val 50000"/>
              <a:gd name="adj2" fmla="val 214831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4000" y="949320"/>
            <a:ext cx="8820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</a:rPr>
              <a:t>Reason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raumatic amputations caused by traffic accidents and work-related inju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ongenital anomalies in childr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Vascular com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athological bone conditions (tumo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Gangre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Changes caused by vascular diseases (M. Buerger, arteriosclerosis, embolis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abolic diseases with vascular complications (diabetic angiopath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473120" y="331920"/>
            <a:ext cx="6056280" cy="11080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89120" y="619200"/>
            <a:ext cx="591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480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478240" y="5784840"/>
            <a:ext cx="245880" cy="309600"/>
          </a:xfrm>
          <a:custGeom>
            <a:avLst/>
            <a:gdLst>
              <a:gd name="textAreaLeft" fmla="*/ 37800 w 245880"/>
              <a:gd name="textAreaRight" fmla="*/ 208080 w 245880"/>
              <a:gd name="textAreaTop" fmla="*/ 47520 h 309600"/>
              <a:gd name="textAreaBottom" fmla="*/ 262080 h 3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478240" y="6043680"/>
            <a:ext cx="245880" cy="431640"/>
          </a:xfrm>
          <a:prstGeom prst="downArrow">
            <a:avLst>
              <a:gd name="adj1" fmla="val 50000"/>
              <a:gd name="adj2" fmla="val 4388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808440" y="1825560"/>
            <a:ext cx="1403280" cy="4726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599000" y="5854680"/>
            <a:ext cx="285840" cy="620640"/>
          </a:xfrm>
          <a:prstGeom prst="downArrow">
            <a:avLst>
              <a:gd name="adj1" fmla="val 50000"/>
              <a:gd name="adj2" fmla="val 54282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99000" y="5618160"/>
            <a:ext cx="285840" cy="24768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62640" y="5140440"/>
            <a:ext cx="396720" cy="496800"/>
          </a:xfrm>
          <a:custGeom>
            <a:avLst/>
            <a:gdLst>
              <a:gd name="textAreaLeft" fmla="*/ 60840 w 396720"/>
              <a:gd name="textAreaRight" fmla="*/ 335880 w 396720"/>
              <a:gd name="textAreaTop" fmla="*/ 76320 h 496800"/>
              <a:gd name="textAreaBottom" fmla="*/ 42048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5637240" y="1827360"/>
            <a:ext cx="1403280" cy="47242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6392880" y="5637240"/>
            <a:ext cx="328680" cy="762120"/>
          </a:xfrm>
          <a:prstGeom prst="downArrow">
            <a:avLst>
              <a:gd name="adj1" fmla="val 50000"/>
              <a:gd name="adj2" fmla="val 57968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92880" y="5408640"/>
            <a:ext cx="328680" cy="25380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75520" y="4417920"/>
            <a:ext cx="649080" cy="368280"/>
          </a:xfrm>
          <a:custGeom>
            <a:avLst/>
            <a:gdLst>
              <a:gd name="textAreaLeft" fmla="*/ 106560 w 649080"/>
              <a:gd name="textAreaRight" fmla="*/ 542520 w 649080"/>
              <a:gd name="textAreaTop" fmla="*/ 60480 h 368280"/>
              <a:gd name="textAreaBottom" fmla="*/ 30780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51560" y="4799160"/>
            <a:ext cx="203400" cy="60948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60520" y="-1440"/>
            <a:ext cx="5991120" cy="10666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33192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ER LIMB PROSTHE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80920" y="1666800"/>
            <a:ext cx="39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tibi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1662120"/>
            <a:ext cx="408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 rot="1260000">
            <a:off x="2991960" y="917640"/>
            <a:ext cx="263520" cy="677880"/>
          </a:xfrm>
          <a:prstGeom prst="downArrow">
            <a:avLst>
              <a:gd name="adj1" fmla="val 50000"/>
              <a:gd name="adj2" fmla="val 64310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0220000">
            <a:off x="5537160" y="953640"/>
            <a:ext cx="252360" cy="685800"/>
          </a:xfrm>
          <a:prstGeom prst="downArrow">
            <a:avLst>
              <a:gd name="adj1" fmla="val 50000"/>
              <a:gd name="adj2" fmla="val 67939"/>
            </a:avLst>
          </a:prstGeom>
          <a:solidFill>
            <a:srgbClr val="ffff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938240" y="2817720"/>
            <a:ext cx="1109880" cy="3733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16160" y="5707080"/>
            <a:ext cx="222120" cy="311040"/>
          </a:xfrm>
          <a:custGeom>
            <a:avLst/>
            <a:gdLst>
              <a:gd name="textAreaLeft" fmla="*/ 34200 w 222120"/>
              <a:gd name="textAreaRight" fmla="*/ 187920 w 222120"/>
              <a:gd name="textAreaTop" fmla="*/ 47880 h 311040"/>
              <a:gd name="textAreaBottom" fmla="*/ 263160 h 31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16160" y="6040440"/>
            <a:ext cx="222120" cy="434880"/>
          </a:xfrm>
          <a:prstGeom prst="downArrow">
            <a:avLst>
              <a:gd name="adj1" fmla="val 50000"/>
              <a:gd name="adj2" fmla="val 48947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027840" y="281772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607080" y="5853240"/>
            <a:ext cx="257400" cy="622080"/>
          </a:xfrm>
          <a:prstGeom prst="downArrow">
            <a:avLst>
              <a:gd name="adj1" fmla="val 50000"/>
              <a:gd name="adj2" fmla="val 60420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07080" y="5616720"/>
            <a:ext cx="25740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70720" y="5138640"/>
            <a:ext cx="357120" cy="498600"/>
          </a:xfrm>
          <a:custGeom>
            <a:avLst/>
            <a:gdLst>
              <a:gd name="textAreaLeft" fmla="*/ 54720 w 357120"/>
              <a:gd name="textAreaRight" fmla="*/ 302400 w 357120"/>
              <a:gd name="textAreaTop" fmla="*/ 76680 h 498600"/>
              <a:gd name="textAreaBottom" fmla="*/ 42192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049" y="21600"/>
                </a:lnTo>
                <a:lnTo>
                  <a:pt x="1855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7367760" y="2779560"/>
            <a:ext cx="110952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961400" y="5815080"/>
            <a:ext cx="258840" cy="622080"/>
          </a:xfrm>
          <a:prstGeom prst="downArrow">
            <a:avLst>
              <a:gd name="adj1" fmla="val 50000"/>
              <a:gd name="adj2" fmla="val 60083"/>
            </a:avLst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961400" y="5578560"/>
            <a:ext cx="258840" cy="249120"/>
          </a:xfrm>
          <a:prstGeom prst="plus">
            <a:avLst>
              <a:gd name="adj" fmla="val 25000"/>
            </a:avLst>
          </a:prstGeom>
          <a:solidFill>
            <a:srgbClr val="ff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856640" y="4795920"/>
            <a:ext cx="512640" cy="360360"/>
          </a:xfrm>
          <a:custGeom>
            <a:avLst/>
            <a:gdLst>
              <a:gd name="textAreaLeft" fmla="*/ 84240 w 512640"/>
              <a:gd name="textAreaRight" fmla="*/ 428400 w 512640"/>
              <a:gd name="textAreaTop" fmla="*/ 59040 h 360360"/>
              <a:gd name="textAreaBottom" fmla="*/ 301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511" y="21600"/>
                </a:lnTo>
                <a:lnTo>
                  <a:pt x="18089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029440" y="5156280"/>
            <a:ext cx="127080" cy="431640"/>
          </a:xfrm>
          <a:prstGeom prst="rect">
            <a:avLst/>
          </a:prstGeom>
          <a:solidFill>
            <a:srgbClr val="0000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08000" y="119556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DOSKELETAL AND EX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93920" y="272880"/>
            <a:ext cx="465444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987640" y="474840"/>
            <a:ext cx="50403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00240" y="1827360"/>
            <a:ext cx="2116080" cy="4647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049720" y="1827360"/>
            <a:ext cx="2333880" cy="46479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367000" y="347760"/>
            <a:ext cx="436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03640" y="1141560"/>
            <a:ext cx="64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20960" y="331920"/>
            <a:ext cx="5303880" cy="6728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651040" y="4748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353960" y="1827360"/>
            <a:ext cx="2895840" cy="4343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827360"/>
            <a:ext cx="28447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303640" y="1141560"/>
            <a:ext cx="60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LOW-KNEE  ( TRANSTIBIAL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11320" y="303120"/>
            <a:ext cx="4846680" cy="701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11320" y="455760"/>
            <a:ext cx="54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512720" y="1751040"/>
            <a:ext cx="2889360" cy="4572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886280" y="1751040"/>
            <a:ext cx="28353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8120" y="1193760"/>
            <a:ext cx="56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11320" y="257040"/>
            <a:ext cx="5211720" cy="7462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95520" y="360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55520" y="1697040"/>
            <a:ext cx="2624040" cy="3745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79608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4875120" y="2057400"/>
            <a:ext cx="2255760" cy="3384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2779560" y="2057400"/>
            <a:ext cx="2256120" cy="338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651040" y="1195560"/>
            <a:ext cx="512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ME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024520" y="1698480"/>
            <a:ext cx="2940120" cy="48247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660680" y="1698480"/>
            <a:ext cx="2974680" cy="48247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36640" y="272880"/>
            <a:ext cx="5029200" cy="73188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1320" y="365040"/>
            <a:ext cx="438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76640" y="1195560"/>
            <a:ext cx="628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GH CORSET PROSTHES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5200" y="258840"/>
            <a:ext cx="5486400" cy="836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4560" y="403200"/>
            <a:ext cx="57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LOW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162240" y="1771560"/>
            <a:ext cx="28116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008080" y="18576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76640" y="330120"/>
            <a:ext cx="54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97000" y="112248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OSKELETAL AND ENDOSKELE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92400" y="1770120"/>
            <a:ext cx="3105360" cy="48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78160" y="119160"/>
            <a:ext cx="4664160" cy="863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700360" y="27144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35240" y="982800"/>
            <a:ext cx="63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 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232160" y="1522440"/>
            <a:ext cx="2067120" cy="49528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492960" y="1598760"/>
            <a:ext cx="2379600" cy="4876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669960" y="1522440"/>
            <a:ext cx="1565280" cy="495288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432160" y="1522440"/>
            <a:ext cx="1631880" cy="495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26920" y="1225440"/>
            <a:ext cx="7490160" cy="54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y limb amputation not only is considered as a physical injury, but is also followed by  psychological and professional damag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Limb loss may alter one's integrity and body scheme, cause mobility problems and poor performance of daily manual activi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rehabilitation includes: medical, social and professional rehabili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193840" y="195120"/>
            <a:ext cx="5029200" cy="80964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0320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35240" y="1058760"/>
            <a:ext cx="629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 (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FEMOR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12880" y="1674720"/>
            <a:ext cx="3200400" cy="480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5199120" y="1674720"/>
            <a:ext cx="3200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77880" y="1050840"/>
            <a:ext cx="778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HIP DISARTICULATION AND HEMIPELVECTOM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378160" y="187200"/>
            <a:ext cx="4754520" cy="817560"/>
          </a:xfrm>
          <a:prstGeom prst="horizontalScroll">
            <a:avLst>
              <a:gd name="adj" fmla="val 12500"/>
            </a:avLst>
          </a:prstGeom>
          <a:noFill/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43280" y="331920"/>
            <a:ext cx="51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-KNEE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189400" y="2131920"/>
            <a:ext cx="2327400" cy="4532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724120" y="2131920"/>
            <a:ext cx="114300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71600" y="838080"/>
            <a:ext cx="71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VELS OF UPPER LIMB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793880" y="1785960"/>
            <a:ext cx="2049480" cy="473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044960" y="29304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HUME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044960" y="47592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RAD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44960" y="232092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HOULDER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44960" y="187956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SCAPUL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44960" y="3844800"/>
            <a:ext cx="42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LBOW DISARTICUL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044960" y="529272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DIO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44960" y="567360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CAR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044960" y="6070680"/>
            <a:ext cx="302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TRANSPHALANG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847800" y="304920"/>
            <a:ext cx="1830240" cy="1828800"/>
          </a:xfrm>
          <a:prstGeom prst="wedgeRoundRectCallout">
            <a:avLst>
              <a:gd name="adj1" fmla="val 81087"/>
              <a:gd name="adj2" fmla="val 91754"/>
              <a:gd name="adj3" fmla="val 16667"/>
            </a:avLst>
          </a:prstGeom>
          <a:solidFill>
            <a:srgbClr val="00ff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SUPPOR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9840" y="228600"/>
            <a:ext cx="1970280" cy="1676520"/>
          </a:xfrm>
          <a:prstGeom prst="wedgeRoundRectCallout">
            <a:avLst>
              <a:gd name="adj1" fmla="val -24555"/>
              <a:gd name="adj2" fmla="val 96305"/>
              <a:gd name="adj3" fmla="val 16667"/>
            </a:avLst>
          </a:prstGeom>
          <a:solidFill>
            <a:srgbClr val="99ff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LASP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OLD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00" y="4343400"/>
            <a:ext cx="2743200" cy="1600200"/>
          </a:xfrm>
          <a:prstGeom prst="wedgeEllipseCallout">
            <a:avLst>
              <a:gd name="adj1" fmla="val 54805"/>
              <a:gd name="adj2" fmla="val -62402"/>
            </a:avLst>
          </a:prstGeom>
          <a:solidFill>
            <a:srgbClr val="ff66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HANDL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07280" y="380880"/>
            <a:ext cx="2673360" cy="1143000"/>
          </a:xfrm>
          <a:prstGeom prst="cloudCallout">
            <a:avLst>
              <a:gd name="adj1" fmla="val -56907"/>
              <a:gd name="adj2" fmla="val 152777"/>
            </a:avLst>
          </a:prstGeom>
          <a:solidFill>
            <a:srgbClr val="ffff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FEE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29040" y="5013360"/>
            <a:ext cx="2687400" cy="1616040"/>
          </a:xfrm>
          <a:prstGeom prst="wedgeEllipseCallout">
            <a:avLst>
              <a:gd name="adj1" fmla="val 5972"/>
              <a:gd name="adj2" fmla="val -87916"/>
            </a:avLst>
          </a:prstGeom>
          <a:solidFill>
            <a:srgbClr val="00ffff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EXPRESS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COMMUNICATI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694560" y="4664160"/>
            <a:ext cx="2378160" cy="1098360"/>
          </a:xfrm>
          <a:prstGeom prst="wedgeRoundRectCallout">
            <a:avLst>
              <a:gd name="adj1" fmla="val -69629"/>
              <a:gd name="adj2" fmla="val -110699"/>
              <a:gd name="adj3" fmla="val 16667"/>
            </a:avLst>
          </a:prstGeom>
          <a:solidFill>
            <a:srgbClr val="ffcc99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RESEMBL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A RE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sl-SI" sz="2000" spc="-1" strike="noStrike">
                <a:solidFill>
                  <a:srgbClr val="000000"/>
                </a:solidFill>
                <a:latin typeface="Arial Black"/>
              </a:rPr>
              <a:t>HAND</a:t>
            </a:r>
            <a:r>
              <a:rPr b="0" lang="sl-SI" sz="2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0" y="2743200"/>
            <a:ext cx="2973600" cy="14810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718160" y="1447920"/>
            <a:ext cx="1268280" cy="1030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919080" y="1797120"/>
            <a:ext cx="1476360" cy="9270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7461360" y="1371600"/>
            <a:ext cx="1338120" cy="12254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988920" y="5486400"/>
            <a:ext cx="1406520" cy="1015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6"/>
          <a:stretch/>
        </p:blipFill>
        <p:spPr>
          <a:xfrm>
            <a:off x="5070600" y="4267080"/>
            <a:ext cx="1266840" cy="1030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566640" y="5334120"/>
            <a:ext cx="2181240" cy="1447560"/>
          </a:xfrm>
          <a:custGeom>
            <a:avLst/>
            <a:gdLst>
              <a:gd name="textAreaLeft" fmla="*/ 319320 w 2181240"/>
              <a:gd name="textAreaRight" fmla="*/ 1861920 w 2181240"/>
              <a:gd name="textAreaTop" fmla="*/ 211680 h 1447560"/>
              <a:gd name="textAreaBottom" fmla="*/ 123588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181" y="10800"/>
                </a:moveTo>
                <a:cubicBezTo>
                  <a:pt x="4181" y="14456"/>
                  <a:pt x="7144" y="17419"/>
                  <a:pt x="10800" y="17419"/>
                </a:cubicBezTo>
                <a:cubicBezTo>
                  <a:pt x="14456" y="17419"/>
                  <a:pt x="17419" y="14456"/>
                  <a:pt x="17419" y="10800"/>
                </a:cubicBezTo>
                <a:cubicBezTo>
                  <a:pt x="17419" y="7144"/>
                  <a:pt x="14456" y="4181"/>
                  <a:pt x="10800" y="4181"/>
                </a:cubicBezTo>
                <a:cubicBezTo>
                  <a:pt x="7144" y="4181"/>
                  <a:pt x="4181" y="7144"/>
                  <a:pt x="4181" y="10800"/>
                </a:cubicBezTo>
                <a:close/>
              </a:path>
            </a:pathLst>
          </a:custGeom>
          <a:solidFill>
            <a:srgbClr val="ff66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6480" y="1600200"/>
            <a:ext cx="2041560" cy="1371600"/>
          </a:xfrm>
          <a:custGeom>
            <a:avLst/>
            <a:gdLst>
              <a:gd name="textAreaLeft" fmla="*/ 298800 w 2041560"/>
              <a:gd name="textAreaRight" fmla="*/ 1742760 w 204156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709" y="10800"/>
                </a:moveTo>
                <a:cubicBezTo>
                  <a:pt x="3709" y="14716"/>
                  <a:pt x="6884" y="17891"/>
                  <a:pt x="10800" y="17891"/>
                </a:cubicBezTo>
                <a:cubicBezTo>
                  <a:pt x="14716" y="17891"/>
                  <a:pt x="17891" y="14716"/>
                  <a:pt x="17891" y="10800"/>
                </a:cubicBezTo>
                <a:cubicBezTo>
                  <a:pt x="17891" y="6884"/>
                  <a:pt x="14716" y="3709"/>
                  <a:pt x="10800" y="3709"/>
                </a:cubicBezTo>
                <a:cubicBezTo>
                  <a:pt x="6884" y="3709"/>
                  <a:pt x="3709" y="6884"/>
                  <a:pt x="3709" y="10800"/>
                </a:cubicBezTo>
                <a:close/>
              </a:path>
            </a:pathLst>
          </a:custGeom>
          <a:solidFill>
            <a:srgbClr val="00ff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226040" y="1292400"/>
            <a:ext cx="2251080" cy="1371600"/>
          </a:xfrm>
          <a:custGeom>
            <a:avLst/>
            <a:gdLst>
              <a:gd name="textAreaLeft" fmla="*/ 329400 w 2251080"/>
              <a:gd name="textAreaRight" fmla="*/ 1921680 w 2251080"/>
              <a:gd name="textAreaTop" fmla="*/ 200880 h 1371600"/>
              <a:gd name="textAreaBottom" fmla="*/ 1170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669" y="10800"/>
                </a:moveTo>
                <a:cubicBezTo>
                  <a:pt x="4669" y="14186"/>
                  <a:pt x="7414" y="16931"/>
                  <a:pt x="10800" y="16931"/>
                </a:cubicBezTo>
                <a:cubicBezTo>
                  <a:pt x="14186" y="16931"/>
                  <a:pt x="16931" y="14186"/>
                  <a:pt x="16931" y="10800"/>
                </a:cubicBezTo>
                <a:cubicBezTo>
                  <a:pt x="16931" y="7414"/>
                  <a:pt x="14186" y="4669"/>
                  <a:pt x="10800" y="4669"/>
                </a:cubicBezTo>
                <a:cubicBezTo>
                  <a:pt x="7414" y="4669"/>
                  <a:pt x="4669" y="7414"/>
                  <a:pt x="4669" y="10800"/>
                </a:cubicBezTo>
                <a:close/>
              </a:path>
            </a:pathLst>
          </a:custGeom>
          <a:solidFill>
            <a:srgbClr val="66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110360" y="1143000"/>
            <a:ext cx="2040120" cy="1676520"/>
          </a:xfrm>
          <a:custGeom>
            <a:avLst/>
            <a:gdLst>
              <a:gd name="textAreaLeft" fmla="*/ 298440 w 2040120"/>
              <a:gd name="textAreaRight" fmla="*/ 1741680 w 2040120"/>
              <a:gd name="textAreaTop" fmla="*/ 245520 h 1676520"/>
              <a:gd name="textAreaBottom" fmla="*/ 143100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39" y="10800"/>
                </a:moveTo>
                <a:cubicBezTo>
                  <a:pt x="3439" y="14865"/>
                  <a:pt x="6735" y="18161"/>
                  <a:pt x="10800" y="18161"/>
                </a:cubicBezTo>
                <a:cubicBezTo>
                  <a:pt x="14865" y="18161"/>
                  <a:pt x="18161" y="14865"/>
                  <a:pt x="18161" y="10800"/>
                </a:cubicBezTo>
                <a:cubicBezTo>
                  <a:pt x="18161" y="6735"/>
                  <a:pt x="14865" y="3439"/>
                  <a:pt x="10800" y="3439"/>
                </a:cubicBezTo>
                <a:cubicBezTo>
                  <a:pt x="6735" y="3439"/>
                  <a:pt x="3439" y="6735"/>
                  <a:pt x="3439" y="10800"/>
                </a:cubicBezTo>
                <a:close/>
              </a:path>
            </a:pathLst>
          </a:custGeom>
          <a:solidFill>
            <a:srgbClr val="ffff00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114800"/>
            <a:ext cx="2039760" cy="1295280"/>
          </a:xfrm>
          <a:custGeom>
            <a:avLst/>
            <a:gdLst>
              <a:gd name="textAreaLeft" fmla="*/ 298440 w 2039760"/>
              <a:gd name="textAreaRight" fmla="*/ 1741320 w 2039760"/>
              <a:gd name="textAreaTop" fmla="*/ 189720 h 1295280"/>
              <a:gd name="textAreaBottom" fmla="*/ 110556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4097" y="10800"/>
                </a:moveTo>
                <a:cubicBezTo>
                  <a:pt x="4097" y="14502"/>
                  <a:pt x="7098" y="17503"/>
                  <a:pt x="10800" y="17503"/>
                </a:cubicBezTo>
                <a:cubicBezTo>
                  <a:pt x="14502" y="17503"/>
                  <a:pt x="17503" y="14502"/>
                  <a:pt x="17503" y="10800"/>
                </a:cubicBezTo>
                <a:cubicBezTo>
                  <a:pt x="17503" y="7098"/>
                  <a:pt x="14502" y="4097"/>
                  <a:pt x="10800" y="4097"/>
                </a:cubicBezTo>
                <a:cubicBezTo>
                  <a:pt x="7098" y="4097"/>
                  <a:pt x="4097" y="7098"/>
                  <a:pt x="4097" y="10800"/>
                </a:cubicBezTo>
                <a:close/>
              </a:path>
            </a:pathLst>
          </a:custGeom>
          <a:solidFill>
            <a:srgbClr val="00ffff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7321680" y="5791320"/>
            <a:ext cx="1266840" cy="838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040520" y="5562720"/>
            <a:ext cx="1828800" cy="12189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8200 h 1218960"/>
              <a:gd name="textAreaBottom" fmla="*/ 104076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305" y="10800"/>
                </a:moveTo>
                <a:cubicBezTo>
                  <a:pt x="3305" y="14939"/>
                  <a:pt x="6661" y="18295"/>
                  <a:pt x="10800" y="18295"/>
                </a:cubicBezTo>
                <a:cubicBezTo>
                  <a:pt x="14939" y="18295"/>
                  <a:pt x="18295" y="14939"/>
                  <a:pt x="18295" y="10800"/>
                </a:cubicBezTo>
                <a:cubicBezTo>
                  <a:pt x="18295" y="6661"/>
                  <a:pt x="14939" y="3305"/>
                  <a:pt x="10800" y="3305"/>
                </a:cubicBezTo>
                <a:cubicBezTo>
                  <a:pt x="6661" y="3305"/>
                  <a:pt x="3305" y="6661"/>
                  <a:pt x="3305" y="10800"/>
                </a:cubicBezTo>
                <a:close/>
              </a:path>
            </a:pathLst>
          </a:custGeom>
          <a:solidFill>
            <a:srgbClr val="ffcc99"/>
          </a:solidFill>
          <a:ln cap="sq"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55680" y="3048120"/>
            <a:ext cx="2814480" cy="914400"/>
          </a:xfrm>
          <a:prstGeom prst="rightArrow">
            <a:avLst>
              <a:gd name="adj1" fmla="val 50000"/>
              <a:gd name="adj2" fmla="val 76949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7120" y="3305160"/>
            <a:ext cx="2262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 Black"/>
              </a:rPr>
              <a:t>HUMAN HAND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943600" y="2514600"/>
            <a:ext cx="3164040" cy="1676520"/>
          </a:xfrm>
          <a:prstGeom prst="leftArrow">
            <a:avLst>
              <a:gd name="adj1" fmla="val 50000"/>
              <a:gd name="adj2" fmla="val 47182"/>
            </a:avLst>
          </a:prstGeom>
          <a:solidFill>
            <a:srgbClr val="ff3300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094440" y="3031560"/>
            <a:ext cx="305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 Black"/>
              </a:rPr>
              <a:t>MULTIFUNCTION MOTOR AND SENSORY OR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84360" y="495360"/>
            <a:ext cx="57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YPES OF UPPER LIMB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11160" y="2803680"/>
            <a:ext cx="7693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CORDING TO THE EUROPEAN RECOMMENDATIONS PROSTHESES CALSSIFICATION IS AS FOLLOW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E,  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ASSIVE,  BODY POWERED, AFFECTED BY GRAVITY 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960" y="4222800"/>
            <a:ext cx="478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TYPES OF PROSTHE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OSME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XTERNALLY POWE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ACTIVITY-SPECI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6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YBR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63640" y="1500120"/>
            <a:ext cx="543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ASSIFICATION ACCORDING TO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28440" y="188136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VEL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080" y="2262240"/>
            <a:ext cx="326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URCE OF POW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96000" y="914400"/>
            <a:ext cx="358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EMPORARY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440" y="1554120"/>
            <a:ext cx="8583480" cy="42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PPLIED ONLY IN BELOW-ELBOW AMPUTATIONS. THEIR ROLE IS TO ENABLE THE PATIENT TO GET FAMILIAR WITH A PROSTHESIS AND ITS FUNCTIONS WITH BASIC TRAINING IN THE USE, AS WELL AS SHAPING THE RESIDUAL LIMB AND STIMULATION OF THE SOFT-TISSUE INVOLUTIO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MAY COME WITHOUT MECHANICAL COMMAND WITH TERMINAL ENDINGS (EATING UTENSILS, VARIOUS TOOLS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Y CAN COME WITH MECHANICAL COMMAND AND ACTIVE TERMINAL DEVICE (HOOK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 BILATERAL BELOW-ELBOW AMPUTATION, A COMBINATION OF BOTH TYPES IS APPLIED, BUT ATTENTION IS PAID TO THE DOMINANT HAND OR LONGER RESIDUAL LIM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195560" y="782640"/>
            <a:ext cx="3195360" cy="25938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997520" y="762120"/>
            <a:ext cx="3235320" cy="26272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90400" y="3429000"/>
            <a:ext cx="1971720" cy="32767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3629160" y="3427560"/>
            <a:ext cx="1888920" cy="3270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6488280" y="3427560"/>
            <a:ext cx="2033280" cy="327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58720" y="771480"/>
            <a:ext cx="4221360" cy="24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TANDARD - 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AL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IGHT WE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LOW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ELECTION OF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COSMETIC APPE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52680" y="128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OSMETIC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925880" y="771480"/>
            <a:ext cx="40100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USTOM M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FOR DISTAL LEVELS OF AMPU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NO READY-MADE COMPON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NUMBER OF PRODUC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3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Y GOOD APPEAR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914400" y="3886200"/>
            <a:ext cx="2125800" cy="278136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4573440" y="3886200"/>
            <a:ext cx="3856320" cy="279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7315200" y="363600"/>
            <a:ext cx="1409760" cy="2455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352440" y="703440"/>
            <a:ext cx="3065400" cy="21160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3887640" y="723960"/>
            <a:ext cx="2936880" cy="209556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306360" y="3429000"/>
            <a:ext cx="4056120" cy="28735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5"/>
          <a:stretch/>
        </p:blipFill>
        <p:spPr>
          <a:xfrm>
            <a:off x="4643280" y="3436920"/>
            <a:ext cx="4151520" cy="29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704880" y="2217600"/>
            <a:ext cx="4149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CABLE OPER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RIST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LBOW-DRIV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35120" y="811080"/>
            <a:ext cx="407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ECHANICAL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5135400" y="1461960"/>
            <a:ext cx="327204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9120" y="795240"/>
            <a:ext cx="85327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6000" indent="-216000"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dical rehabilitation consists of several phas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amputation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mputat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ostamputation phas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ssessment of patient's capacity for prosthetic fi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e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Prosthetic ph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2440" y="25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5680080" y="404640"/>
            <a:ext cx="3084480" cy="5302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44560" y="360360"/>
            <a:ext cx="4573440" cy="61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CABLE-OPER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mploy a cable to transmit the body motion from a proximal segment to the prosthetic end- eff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wer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Good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Rapid direct 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Sil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Longlas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pension is nece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13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seemly appearance in some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210960" y="3193920"/>
            <a:ext cx="449280" cy="5511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230040" y="533232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52440" y="16992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368280"/>
            <a:ext cx="521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OMANDA PREKO RUČNOG ZGLOB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4691160" y="841320"/>
            <a:ext cx="3752640" cy="276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914400" y="3660840"/>
            <a:ext cx="3635280" cy="27939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4691160" y="3660840"/>
            <a:ext cx="375264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493560" y="2276640"/>
            <a:ext cx="3808440" cy="203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4815000" y="1916280"/>
            <a:ext cx="4200480" cy="322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2462040" y="1066680"/>
            <a:ext cx="470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BOW-DRIVEN PROSTHE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52440" y="45720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022480" y="2205000"/>
            <a:ext cx="5246640" cy="304020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728880" y="1295280"/>
            <a:ext cx="274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52440" y="-2271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1266840" y="284040"/>
            <a:ext cx="3448080" cy="25066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4784760" y="763560"/>
            <a:ext cx="1969920" cy="32004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818400" y="2744640"/>
            <a:ext cx="1993680" cy="317664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079640" y="3022560"/>
            <a:ext cx="2565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INEMATIC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api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Risk of inf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325440" y="373536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371520" y="5094360"/>
            <a:ext cx="403200" cy="53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785520" y="1355760"/>
            <a:ext cx="4391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KRUCKENBE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 very good feedback on grasp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It can be combined with a prosthe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Weak grasp fo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Unseemly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Surgery is 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3348000" y="2955960"/>
            <a:ext cx="2774880" cy="37497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346720" y="289080"/>
            <a:ext cx="3649680" cy="3541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21096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4"/>
          <a:stretch/>
        </p:blipFill>
        <p:spPr>
          <a:xfrm>
            <a:off x="230040" y="31240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52440" y="466560"/>
            <a:ext cx="816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l-SI" sz="18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135400" y="1660680"/>
            <a:ext cx="2533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PNEUMATIC CO</a:t>
            </a:r>
            <a:r>
              <a:rPr b="1" lang="sl-SI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397160" y="835200"/>
            <a:ext cx="62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EXTERNALLY POWERED PROSTHE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854600" y="2793960"/>
            <a:ext cx="3989520" cy="2884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336680" y="1660680"/>
            <a:ext cx="21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352440" y="2768760"/>
            <a:ext cx="3940200" cy="28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119320" y="1355760"/>
            <a:ext cx="51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BIPOLAR SKIN CONDU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41120" y="2514600"/>
            <a:ext cx="2814840" cy="27147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3095640" y="1981080"/>
            <a:ext cx="5981760" cy="43704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701800" y="811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MYOELECTR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985680" y="1008000"/>
            <a:ext cx="3306960" cy="23814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995720" y="950760"/>
            <a:ext cx="3799080" cy="27766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914400" y="243000"/>
            <a:ext cx="38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MG-BASED MOVEMENT CONTROL TRAIN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8000" y="304920"/>
            <a:ext cx="30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YOBOY OTTO-BO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985680" y="3541680"/>
            <a:ext cx="4221360" cy="30560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4"/>
          <a:stretch/>
        </p:blipFill>
        <p:spPr>
          <a:xfrm>
            <a:off x="5699160" y="3884760"/>
            <a:ext cx="281448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844560" y="1066680"/>
            <a:ext cx="2976480" cy="2183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844560" y="3971880"/>
            <a:ext cx="2884320" cy="23432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4573440" y="787320"/>
            <a:ext cx="2013120" cy="35053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4081320" y="4341960"/>
            <a:ext cx="2532240" cy="24001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6754680" y="1371600"/>
            <a:ext cx="22464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14200" y="936720"/>
            <a:ext cx="879336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Preamputation phase of rehabili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conducted if there is enough time left for psychophysical preparation of the patient considering their primary disease or cond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Time in the preoperative phase should be used for improving the patient's general condition, using exercises for strengthening of the upper and lower musculature, and general conditioning exerc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898560" y="1697040"/>
            <a:ext cx="50655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GOOD LEVEL OF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RELATIVELY GOOD AESTHET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MALL BATTERY, EASY FOR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WITHOUT SHOULDER SUSPEN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HIGH PR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MAINTEN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INDIRECT FEED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348160" y="260280"/>
            <a:ext cx="3687840" cy="604836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79280" y="2057400"/>
            <a:ext cx="449280" cy="5508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249120" y="4038480"/>
            <a:ext cx="40320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4360" y="289080"/>
            <a:ext cx="79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Times New Roman"/>
              </a:rPr>
              <a:t>ACTIVITY-SPECIFIC PROSTHESES - MULTIFUNCT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42800" y="870120"/>
            <a:ext cx="3683160" cy="26748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863960" y="930240"/>
            <a:ext cx="3719520" cy="26226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428760" y="3792600"/>
            <a:ext cx="3722400" cy="268452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4"/>
          <a:stretch/>
        </p:blipFill>
        <p:spPr>
          <a:xfrm>
            <a:off x="4643280" y="3894120"/>
            <a:ext cx="408168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281160" y="511200"/>
            <a:ext cx="2728800" cy="22161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216240" y="498600"/>
            <a:ext cx="2763720" cy="22446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6191280" y="520560"/>
            <a:ext cx="2744640" cy="222912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4"/>
          <a:stretch/>
        </p:blipFill>
        <p:spPr>
          <a:xfrm>
            <a:off x="298440" y="3352680"/>
            <a:ext cx="3782880" cy="3067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5"/>
          <a:stretch/>
        </p:blipFill>
        <p:spPr>
          <a:xfrm>
            <a:off x="4292640" y="3359160"/>
            <a:ext cx="4573440" cy="309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2987640" y="739800"/>
            <a:ext cx="371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Times New Roman"/>
              </a:rPr>
              <a:t>HYBRI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73280" y="1600200"/>
            <a:ext cx="2814480" cy="4681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4336920" y="1600200"/>
            <a:ext cx="4035600" cy="464832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969920" y="1752480"/>
            <a:ext cx="492120" cy="152640"/>
          </a:xfrm>
          <a:prstGeom prst="rect">
            <a:avLst/>
          </a:prstGeom>
          <a:solidFill>
            <a:srgbClr val="000066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573360" cy="211140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211640" y="0"/>
            <a:ext cx="2428920" cy="35272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7094520" y="0"/>
            <a:ext cx="2049480" cy="3384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4"/>
          <a:stretch/>
        </p:blipFill>
        <p:spPr>
          <a:xfrm>
            <a:off x="6516720" y="3718080"/>
            <a:ext cx="2281320" cy="31399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5"/>
          <a:stretch/>
        </p:blipFill>
        <p:spPr>
          <a:xfrm>
            <a:off x="826920" y="2549520"/>
            <a:ext cx="2711520" cy="430848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6"/>
          <a:stretch/>
        </p:blipFill>
        <p:spPr>
          <a:xfrm>
            <a:off x="4140360" y="3645000"/>
            <a:ext cx="1882440" cy="29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06680" cy="386568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284720" y="1773360"/>
            <a:ext cx="4032360" cy="34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4451400" y="2711520"/>
            <a:ext cx="4441680" cy="389412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380340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669960"/>
            <a:ext cx="820908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Amputation pha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Method, type and technique of amputation lie within the domain of surgeo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Stump leng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32280" y="2936880"/>
            <a:ext cx="5119560" cy="38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5560"/>
            <a:ext cx="8604360" cy="67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sr-Latn-CS" sz="3600" spc="-1" strike="noStrike" u="sng">
                <a:solidFill>
                  <a:srgbClr val="000000"/>
                </a:solidFill>
                <a:uFillTx/>
                <a:latin typeface="Arial"/>
              </a:rPr>
              <a:t>Postamputation pha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tarts as soon as the first day after an ampu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medical issues connected with the patient's previous dise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occurrence of hemato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ossible wound inf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Development of gangr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Locally disturbed blood flow may lead to the development of stump ede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22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Immobility in elderly patients may lead to bronchopneumonia, urinary infections, disorders of peripheral circulation of bl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240" y="957240"/>
            <a:ext cx="9109080" cy="49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n active movement is of great importance and contracture prevention is most import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he above-knee stump shows tendency towards flexion and abduction contracture because of the position of muscle attachments, inactivity and prolonged sitting- patients should be warned to avoid prolonged sitting at the edge of the bed because it leads to shortening of the flexor muscles, which hinders further prosthetic fi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Corrective position: the below-knee stump should be kept in extension; the above-knee stump should be in extension and adduction, with a preferred pronatory trunk position. The below-knee stump is fixed in full knee extens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1730520"/>
            <a:ext cx="813744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An above-elbow amputation requires prevention of adduction contracture of the shoulder joint by placing a pillow under the armp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6000" indent="-216000">
              <a:spcBef>
                <a:spcPts val="174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Phantom sensation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is usually lost after six months from amputation when a new body scheme is form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8T19:38:32Z</dcterms:created>
  <dc:creator>Veljkovic Miodrag</dc:creator>
  <dc:description/>
  <dc:language>en-US</dc:language>
  <cp:lastModifiedBy>nm </cp:lastModifiedBy>
  <dcterms:modified xsi:type="dcterms:W3CDTF">2023-09-27T14:26:32Z</dcterms:modified>
  <cp:revision>79</cp:revision>
  <dc:subject/>
  <dc:title>MEHANOTERAPIJA</dc:title>
</cp:coreProperties>
</file>